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04A-11D9-4F45-8B15-0258E49F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CD6-D791-4F43-BC80-8C76ABA5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299-FFC4-49DD-A99C-5B07B7F8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B00-9ECF-4D15-83FA-C068B758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AAD7-147D-4ABB-BD01-6D2F1472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C96C-53AE-4174-B1D4-9828C848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E333-A755-4729-94B5-D1966A1F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8FD6-6DF2-4CDE-9694-96B3355D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E147-1847-4573-A523-A0419DEC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C24D-D945-4EDE-9E86-7031FF68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3602-07D9-4D5A-9A97-C6E1EA81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468-1388-4426-9D91-03813BFB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587A-C160-4464-B3AD-4746AB10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ECC7-1AC8-4710-ADD3-503CDC10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7F26-07AE-49E1-B17A-7957C83D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DBC3-FE5F-4E2C-BE6C-8753E8AB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FFDF-25EF-47D6-BA70-6B2B00FD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C47-C052-4DC7-9677-8448A3FE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A47-671B-48ED-8996-46A43E09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076-2522-4EFF-8C6A-36504909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C89-553C-46C5-A8CA-3347FEBC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7D1-BA3E-44F1-A6B2-6413F222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A17-017E-40DB-B44C-D910AD9A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E28-39A2-498F-9BF5-B72D0A05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EFAF-E7BC-42F7-95CD-B4CF4D437A68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249D-54BE-4C6F-8241-DD51EB19305D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hat causes a tornado?????</a:t>
            </a: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6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 ai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clockwi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nel clou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cell formed by mixing warm moist air with cold weather wind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3657600" cy="3349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24280" y="6172200"/>
            <a:ext cx="425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naturescrusaders.files.wordpress.com/2008/11/wxwhytornadoformation385x289x961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6627600" y="160020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oogl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1240" y="6438960"/>
            <a:ext cx="22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fema.gov/kids/dizarea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powerful tornad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6324840" cy="4515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14600" y="66294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onlite.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5:14:32Z</dcterms:created>
  <dc:creator>D83  User</dc:creator>
  <dc:description/>
  <dc:language>en-US</dc:language>
  <cp:lastModifiedBy>D83  User</cp:lastModifiedBy>
  <dcterms:modified xsi:type="dcterms:W3CDTF">2010-10-27T15:02:43Z</dcterms:modified>
  <cp:revision>22</cp:revision>
  <dc:subject/>
  <dc:title>PowerPoint Presentation</dc:title>
</cp:coreProperties>
</file>